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F77-4BA9-43B4-8E17-D95A91FF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B1F-9F11-480B-AD8B-03F00D79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430-22AD-4374-A3B2-E8A7BA8D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A74-5438-4CA1-8A98-C5271D16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4D70-CB2D-472C-B1E9-2E536700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D8C5-8BF7-4F86-A4B6-BDD414D0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831E-D350-4428-B8C1-914D46AF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60BB-7F1D-4816-A038-61683ED0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8109-040C-4458-8F15-CAFA764D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9170-08D4-4910-8E4C-8CA6E284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1C47-3FDE-407B-89EB-9DAF5D98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815-D641-4C71-A500-5624FE64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C8AD-6C3D-4260-A751-1E2A14A1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19A5-655C-43DA-BCE7-03D2DA7F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8FB1-FB07-43B0-B26B-D0698FD5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2207-4FB6-4E1F-9B4C-A0C6C3B5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F7F8-271D-4027-85B1-4CEEBE48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919-2978-45C6-A488-3CC896B3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0EE-6C24-4559-9FB1-CC5D3C14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194-54E3-472E-ACA5-9849C402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E7B-C409-4E1D-98FE-1993FD8A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669-9948-4649-A967-50F6E2A9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8D6-4105-4FB0-A67E-8FF2F589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A7C-42AA-412B-AEB2-23429CAA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19EA-D7A7-4456-9FAD-32672BD55A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C0A2-1C42-4C6C-B6F7-E51F8F6BDA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9440"/>
            <a:ext cx="640080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b3s7</cp:lastModifiedBy>
  <dcterms:modified xsi:type="dcterms:W3CDTF">2012-06-19T11:03:37Z</dcterms:modified>
  <cp:revision>30</cp:revision>
  <dc:subject/>
  <dc:title>SALARIUL</dc:title>
</cp:coreProperties>
</file>